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0999-8D68-41E4-B12A-61FECA342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E552-BB28-4B69-A1EA-84A4396EC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new qu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76B2-5102-4264-9807-8927BE7E8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87EC-C6E2-466C-8598-1BED5E5D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78D-D17A-4ED0-A696-DC08FDA9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D398-8DAE-45AE-A435-E2CD0444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51F1-5185-4CB5-9456-4EA8429F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1957-6AEB-465D-BA39-4F08E659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B04-F320-43C3-9D0C-B21B41A0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ABB-C831-46C9-88B7-731B6A72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2B2-5026-47B6-BB64-A9597CA8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9B9-95FD-46BF-8997-2DC6205E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0E3A-46E4-4AB4-9AC1-1CD42D1A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121-72EA-4168-ADA7-891078F1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62C3-A75D-47F3-93F3-944CDE89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E1C0-3182-425B-8B33-F4F10725D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www.forbes.com/celebrities/" TargetMode="Externa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0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2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6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8"/>
          <p:cNvSpPr/>
          <p:nvPr/>
        </p:nvSpPr>
        <p:spPr>
          <a:xfrm>
            <a:off x="533520" y="2057400"/>
            <a:ext cx="800100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92929"/>
                </a:solidFill>
                <a:latin typeface="Viner Hand ITC"/>
              </a:rPr>
              <a:t>Introducing SEM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92929"/>
                </a:solidFill>
                <a:latin typeface="Viner Hand ITC"/>
              </a:rPr>
              <a:t> </a:t>
            </a:r>
            <a:r>
              <a:rPr b="0" lang="en-US" sz="7200" spc="-1" strike="noStrike">
                <a:solidFill>
                  <a:srgbClr val="292929"/>
                </a:solidFill>
                <a:latin typeface="Viner Hand ITC"/>
              </a:rPr>
              <a:t>Classroom Triv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152280" y="175248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In how many languages does the NBA offer balloting for it’s All-Star Gam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9"/>
          <p:cNvSpPr/>
          <p:nvPr/>
        </p:nvSpPr>
        <p:spPr>
          <a:xfrm>
            <a:off x="3809880" y="3809880"/>
            <a:ext cx="44960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9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20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8"/>
          <p:cNvSpPr/>
          <p:nvPr/>
        </p:nvSpPr>
        <p:spPr>
          <a:xfrm>
            <a:off x="228600" y="16002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at is the most valuable sports franchise in the Worl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2438280" y="3276720"/>
            <a:ext cx="6705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New York Yankees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Dallas Cowbo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Los Angeles Lakers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Manchester Un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457200" y="19051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In what year was the first baseball game broadcast on the radi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9"/>
          <p:cNvSpPr/>
          <p:nvPr/>
        </p:nvSpPr>
        <p:spPr>
          <a:xfrm>
            <a:off x="3809880" y="3886200"/>
            <a:ext cx="42674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1886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19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1921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19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8"/>
          <p:cNvSpPr/>
          <p:nvPr/>
        </p:nvSpPr>
        <p:spPr>
          <a:xfrm>
            <a:off x="609480" y="3352680"/>
            <a:ext cx="8534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a.  </a:t>
            </a:r>
            <a:r>
              <a:rPr b="1" i="1" lang="es-ES" sz="2600" spc="-1" strike="noStrike">
                <a:solidFill>
                  <a:srgbClr val="ff0000"/>
                </a:solidFill>
                <a:latin typeface="Arial"/>
              </a:rPr>
              <a:t>Manny Pacquio vs. Floyd Mayweather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(2015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b.  WWE’s WrestleMania 28 (20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c.  UFC – Lidell vs. Jackson (2007)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d.  Conor McGregor </a:t>
            </a:r>
            <a:r>
              <a:rPr b="1" i="1" lang="es-ES" sz="2600" spc="-1" strike="noStrike">
                <a:solidFill>
                  <a:srgbClr val="ff0000"/>
                </a:solidFill>
                <a:latin typeface="Arial"/>
              </a:rPr>
              <a:t>vs. Floyd Mayweather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(20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9"/>
          <p:cNvSpPr/>
          <p:nvPr/>
        </p:nvSpPr>
        <p:spPr>
          <a:xfrm>
            <a:off x="228600" y="54100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* The 2015 boxing match between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Manny Pacquio and Floyd Mayweathe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drew 4.4 buys, generating $400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457200" y="1600200"/>
            <a:ext cx="8077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at event generated the most revenue in pay-per-view hist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8"/>
          <p:cNvSpPr/>
          <p:nvPr/>
        </p:nvSpPr>
        <p:spPr>
          <a:xfrm>
            <a:off x="152280" y="17524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o is the largest pay-per-view provider in the worl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9"/>
          <p:cNvSpPr/>
          <p:nvPr/>
        </p:nvSpPr>
        <p:spPr>
          <a:xfrm>
            <a:off x="1143000" y="3276720"/>
            <a:ext cx="7620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.  WWE (World Wresting Entertainment)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.  WBO (World Boxing Organ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.  ICC (International Cricket Counc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.  UFC (Ultimate Fighting Champion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0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Milwaukee Journal Senti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9" dur="2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8"/>
          <p:cNvSpPr/>
          <p:nvPr/>
        </p:nvSpPr>
        <p:spPr>
          <a:xfrm>
            <a:off x="457200" y="1752480"/>
            <a:ext cx="8077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According to Nielsen, which is the most popular sports app based on total minutes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9"/>
          <p:cNvSpPr/>
          <p:nvPr/>
        </p:nvSpPr>
        <p:spPr>
          <a:xfrm>
            <a:off x="2614680" y="3819600"/>
            <a:ext cx="5638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Yahoo! Sports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ESPN Sports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NFL Mobile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CBS Fantasy Foo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0"/>
          <p:cNvSpPr/>
          <p:nvPr/>
        </p:nvSpPr>
        <p:spPr>
          <a:xfrm>
            <a:off x="30492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Nielsen’s Year End Sports Media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2" dur="2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8"/>
          <p:cNvSpPr/>
          <p:nvPr/>
        </p:nvSpPr>
        <p:spPr>
          <a:xfrm>
            <a:off x="457200" y="18288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In what year did Apple launch the iTunes music st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9"/>
          <p:cNvSpPr/>
          <p:nvPr/>
        </p:nvSpPr>
        <p:spPr>
          <a:xfrm>
            <a:off x="3733920" y="3657600"/>
            <a:ext cx="419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2003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2005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3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5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"/>
          <p:cNvSpPr/>
          <p:nvPr/>
        </p:nvSpPr>
        <p:spPr>
          <a:xfrm>
            <a:off x="228600" y="16225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How much revenue will be generated at the box office (movie ticket sales) by 2021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9"/>
          <p:cNvSpPr/>
          <p:nvPr/>
        </p:nvSpPr>
        <p:spPr>
          <a:xfrm>
            <a:off x="2673360" y="3863880"/>
            <a:ext cx="5715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$10.6 billion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$11.2 bill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$12.5 billion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$13.1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0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 Price Waterhouse Coop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2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4" dur="2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62120" y="1828800"/>
            <a:ext cx="7848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at is the most popular attraction in the worl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1752480" y="3352680"/>
            <a:ext cx="67820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420480" indent="-420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Walt Disney World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The Eiffel T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Yellowstone National Park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The Grand Can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.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uckingham Pa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5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1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8"/>
          <p:cNvSpPr/>
          <p:nvPr/>
        </p:nvSpPr>
        <p:spPr>
          <a:xfrm>
            <a:off x="380880" y="1693800"/>
            <a:ext cx="84582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o was the highest paid actor or actress last year, according to forbes annual ranking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1695600" y="4056120"/>
            <a:ext cx="5981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George Clooney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Scarlett Johan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Dwayne “The Rock” Johnson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Chris Hemsw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8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0" dur="2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533520" y="1600200"/>
            <a:ext cx="80010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Viner Hand ITC"/>
              </a:rPr>
              <a:t>Introducing SEM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Viner Hand ITC"/>
              </a:rPr>
              <a:t> </a:t>
            </a:r>
            <a:r>
              <a:rPr b="0" lang="en-US" sz="5400" spc="-1" strike="noStrike">
                <a:solidFill>
                  <a:srgbClr val="292929"/>
                </a:solidFill>
                <a:latin typeface="Viner Hand ITC"/>
              </a:rPr>
              <a:t>Classroom Triv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iner Hand ITC"/>
              </a:rPr>
              <a:t>GAME RUL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457200" y="18288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o is the most recognizable athlete in the world (according to an ESPN study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0"/>
          <p:cNvSpPr/>
          <p:nvPr/>
        </p:nvSpPr>
        <p:spPr>
          <a:xfrm>
            <a:off x="30492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espn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9"/>
          <p:cNvSpPr/>
          <p:nvPr/>
        </p:nvSpPr>
        <p:spPr>
          <a:xfrm>
            <a:off x="2324160" y="3517920"/>
            <a:ext cx="6705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LeBron James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Cristiano Ronal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Tom Brady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Tiger W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3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8"/>
          <p:cNvSpPr/>
          <p:nvPr/>
        </p:nvSpPr>
        <p:spPr>
          <a:xfrm>
            <a:off x="533520" y="1685880"/>
            <a:ext cx="8076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pperplate Gothic Bold"/>
              </a:rPr>
              <a:t>According to research, Pandora is the most popular streaming service among all age groups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pperplate Gothic Bold"/>
              </a:rPr>
              <a:t>EXCEPT</a:t>
            </a:r>
            <a:r>
              <a:rPr b="0" lang="en-US" sz="3200" spc="-1" strike="noStrike">
                <a:solidFill>
                  <a:srgbClr val="000099"/>
                </a:solidFill>
                <a:latin typeface="Copperplate Gothic Bold"/>
              </a:rPr>
              <a:t>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9"/>
          <p:cNvSpPr/>
          <p:nvPr/>
        </p:nvSpPr>
        <p:spPr>
          <a:xfrm>
            <a:off x="3657600" y="3657600"/>
            <a:ext cx="4419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18-24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25-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36-45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46-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0"/>
          <p:cNvSpPr/>
          <p:nvPr/>
        </p:nvSpPr>
        <p:spPr>
          <a:xfrm>
            <a:off x="30492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www.statista.com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0" dur="2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2" dur="2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8"/>
          <p:cNvSpPr/>
          <p:nvPr/>
        </p:nvSpPr>
        <p:spPr>
          <a:xfrm>
            <a:off x="228600" y="19051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o owns the ESPN network of cable television progra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9"/>
          <p:cNvSpPr/>
          <p:nvPr/>
        </p:nvSpPr>
        <p:spPr>
          <a:xfrm>
            <a:off x="2743200" y="3429000"/>
            <a:ext cx="5715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 ABC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CBS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Turner Broad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3" dur="2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5" dur="2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8"/>
          <p:cNvSpPr/>
          <p:nvPr/>
        </p:nvSpPr>
        <p:spPr>
          <a:xfrm>
            <a:off x="609480" y="1676520"/>
            <a:ext cx="83059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ich of the following international theme parks was 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Copperplate Gothic Bold"/>
              </a:rPr>
              <a:t>NOT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among the top 25 highest attended last y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0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The Global Attractions Attendance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1"/>
          <p:cNvSpPr/>
          <p:nvPr/>
        </p:nvSpPr>
        <p:spPr>
          <a:xfrm>
            <a:off x="1752480" y="3886200"/>
            <a:ext cx="6427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Universal Studios (U.S.)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Disney Land (Jap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Six Flags (St. Louis)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Ocean Park (Hong Ko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0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2" dur="2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0" dur="2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"/>
          <p:cNvSpPr/>
          <p:nvPr/>
        </p:nvSpPr>
        <p:spPr>
          <a:xfrm>
            <a:off x="0" y="1523880"/>
            <a:ext cx="8915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400" spc="-1" strike="noStrike">
                <a:solidFill>
                  <a:srgbClr val="000099"/>
                </a:solidFill>
                <a:latin typeface="Copperplate Gothic Bold"/>
              </a:rPr>
              <a:t>How many theme parks does the SeaWorld Parks &amp; Entertainment company operat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9"/>
          <p:cNvSpPr/>
          <p:nvPr/>
        </p:nvSpPr>
        <p:spPr>
          <a:xfrm>
            <a:off x="3733920" y="3200400"/>
            <a:ext cx="3886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10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304920" y="51055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* The group owns and operates three Sea Worlds, two Busch Gardens, four water parks (including two Adventure Islands), Discovery Cove and Sesame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7" dur="2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9" dur="2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0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 Spotif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1"/>
          <p:cNvSpPr/>
          <p:nvPr/>
        </p:nvSpPr>
        <p:spPr>
          <a:xfrm>
            <a:off x="444600" y="1631880"/>
            <a:ext cx="8076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at type of musical genre is the most popular in the world based on streaming statist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2"/>
          <p:cNvSpPr/>
          <p:nvPr/>
        </p:nvSpPr>
        <p:spPr>
          <a:xfrm>
            <a:off x="3657600" y="3990960"/>
            <a:ext cx="4876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Hip-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P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Country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4" dur="2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5" dur="2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8"/>
          <p:cNvSpPr/>
          <p:nvPr/>
        </p:nvSpPr>
        <p:spPr>
          <a:xfrm>
            <a:off x="152280" y="182880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ich athlete earned the most money last y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9"/>
          <p:cNvSpPr/>
          <p:nvPr/>
        </p:nvSpPr>
        <p:spPr>
          <a:xfrm>
            <a:off x="2819520" y="3276720"/>
            <a:ext cx="57909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Roger Federer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Alex M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Floyd Mayweather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LeBron J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1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 For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0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2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4" dur="2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457200" y="17524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The Olympic Games were profitable for the first time in what y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9"/>
          <p:cNvSpPr/>
          <p:nvPr/>
        </p:nvSpPr>
        <p:spPr>
          <a:xfrm>
            <a:off x="3657600" y="3657600"/>
            <a:ext cx="4648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1926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19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1970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19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0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5" dur="2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7" dur="2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8"/>
          <p:cNvSpPr/>
          <p:nvPr/>
        </p:nvSpPr>
        <p:spPr>
          <a:xfrm>
            <a:off x="457200" y="1981080"/>
            <a:ext cx="8077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In what year did ESPN make its television deb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9"/>
          <p:cNvSpPr/>
          <p:nvPr/>
        </p:nvSpPr>
        <p:spPr>
          <a:xfrm>
            <a:off x="3733920" y="3429000"/>
            <a:ext cx="4800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1965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19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1979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19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4" dur="2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6" dur="20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838080" y="2133720"/>
            <a:ext cx="7696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at does ESPN stand f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457200" y="32767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a.   Entertainment &amp; Sports Programming Network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b.   Everything Sports Programming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c.   Exceptional Sporting Programs Network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d.   Entertaining Sports Programs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0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3" dur="2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5" dur="2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533520" y="1447920"/>
            <a:ext cx="8001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ivide the class into two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reate tea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sks should be facing the othe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Game begins as questions appear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first team to raise a hand has fir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pportunity to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8"/>
          <p:cNvSpPr/>
          <p:nvPr/>
        </p:nvSpPr>
        <p:spPr>
          <a:xfrm>
            <a:off x="304920" y="18288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In what year did the magazine </a:t>
            </a:r>
            <a:r>
              <a:rPr b="0" i="1" lang="en-US" sz="3600" spc="-1" strike="noStrike">
                <a:solidFill>
                  <a:srgbClr val="000099"/>
                </a:solidFill>
                <a:latin typeface="Copperplate Gothic Bold"/>
              </a:rPr>
              <a:t>Sports Illustrated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first hit the newssta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9"/>
          <p:cNvSpPr/>
          <p:nvPr/>
        </p:nvSpPr>
        <p:spPr>
          <a:xfrm>
            <a:off x="3809880" y="3733920"/>
            <a:ext cx="47246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1954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19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1964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19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2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4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8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o is recognized as the visionary for Monday Night Footb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9"/>
          <p:cNvSpPr/>
          <p:nvPr/>
        </p:nvSpPr>
        <p:spPr>
          <a:xfrm>
            <a:off x="2895480" y="3886200"/>
            <a:ext cx="4800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Roone Arledge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Mark McCorm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Ted Turner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Bill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0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1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3" dur="2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9"/>
          <p:cNvSpPr/>
          <p:nvPr/>
        </p:nvSpPr>
        <p:spPr>
          <a:xfrm>
            <a:off x="533520" y="18288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In which year did Ninte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introduce its home vide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entertainment system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20"/>
          <p:cNvSpPr/>
          <p:nvPr/>
        </p:nvSpPr>
        <p:spPr>
          <a:xfrm>
            <a:off x="3809880" y="3962520"/>
            <a:ext cx="4191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1985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19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1989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0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3" dur="2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6" dur="20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8" dur="2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638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8"/>
          <p:cNvSpPr/>
          <p:nvPr/>
        </p:nvSpPr>
        <p:spPr>
          <a:xfrm>
            <a:off x="380880" y="19810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In what year was Music Television (MTV) launch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9"/>
          <p:cNvSpPr/>
          <p:nvPr/>
        </p:nvSpPr>
        <p:spPr>
          <a:xfrm>
            <a:off x="3733920" y="35812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1979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19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1983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19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7" dur="20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8"/>
          <p:cNvSpPr/>
          <p:nvPr/>
        </p:nvSpPr>
        <p:spPr>
          <a:xfrm>
            <a:off x="457200" y="190512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How many Americans cons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themselves to be sports fa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9"/>
          <p:cNvSpPr/>
          <p:nvPr/>
        </p:nvSpPr>
        <p:spPr>
          <a:xfrm>
            <a:off x="2590920" y="3429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1 of every 8 adult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3 of every 8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5 of every 8 adult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7 of every 8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20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 The Sports Business Jour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4" dur="20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7" dur="20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3" dur="2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8"/>
          <p:cNvSpPr/>
          <p:nvPr/>
        </p:nvSpPr>
        <p:spPr>
          <a:xfrm>
            <a:off x="838080" y="18288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pperplate Gothic Bold"/>
              </a:rPr>
              <a:t>How many people visited the top 25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pperplate Gothic Bold"/>
              </a:rPr>
              <a:t>global</a:t>
            </a:r>
            <a:r>
              <a:rPr b="0" lang="en-US" sz="3200" spc="-1" strike="noStrike">
                <a:solidFill>
                  <a:srgbClr val="000099"/>
                </a:solidFill>
                <a:latin typeface="Copperplate Gothic Bold"/>
              </a:rPr>
              <a:t> theme parks in 2019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19"/>
          <p:cNvSpPr/>
          <p:nvPr/>
        </p:nvSpPr>
        <p:spPr>
          <a:xfrm>
            <a:off x="3429000" y="3581280"/>
            <a:ext cx="4495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192 million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287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381 million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521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0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0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0" dur="20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6" dur="20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8"/>
          <p:cNvSpPr/>
          <p:nvPr/>
        </p:nvSpPr>
        <p:spPr>
          <a:xfrm>
            <a:off x="0" y="1676520"/>
            <a:ext cx="8991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How much does the NCAA men’s basketball tournament cost U.S. businesses each year in worker productivit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9"/>
          <p:cNvSpPr/>
          <p:nvPr/>
        </p:nvSpPr>
        <p:spPr>
          <a:xfrm>
            <a:off x="1143000" y="3886200"/>
            <a:ext cx="7543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456840" indent="-456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$20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$100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$175 million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$1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20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The Detroit New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0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3" dur="20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9" dur="2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8"/>
          <p:cNvSpPr/>
          <p:nvPr/>
        </p:nvSpPr>
        <p:spPr>
          <a:xfrm>
            <a:off x="228600" y="1752480"/>
            <a:ext cx="8610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In how many countries are ESPN broadcasts available to view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9"/>
          <p:cNvSpPr/>
          <p:nvPr/>
        </p:nvSpPr>
        <p:spPr>
          <a:xfrm>
            <a:off x="2819520" y="3581280"/>
            <a:ext cx="5715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 75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172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0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 espnmediazon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0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6" dur="2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10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10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10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10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10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8" dur="20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8"/>
          <p:cNvSpPr/>
          <p:nvPr/>
        </p:nvSpPr>
        <p:spPr>
          <a:xfrm>
            <a:off x="457200" y="19051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How many American adults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playing some form of fanta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football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9"/>
          <p:cNvSpPr/>
          <p:nvPr/>
        </p:nvSpPr>
        <p:spPr>
          <a:xfrm>
            <a:off x="3276720" y="3733920"/>
            <a:ext cx="3886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50 million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75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100 million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120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0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 Fantasy Sports Trade Association (FST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nodeType="clickEffect" fill="hold">
                      <p:stCondLst>
                        <p:cond delay="0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9" dur="20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2" dur="20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5" dur="20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7" dur="2000" fill="hold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8"/>
          <p:cNvSpPr/>
          <p:nvPr/>
        </p:nvSpPr>
        <p:spPr>
          <a:xfrm>
            <a:off x="380880" y="18288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o was responsible for founding the sundance film festival in 1981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9"/>
          <p:cNvSpPr/>
          <p:nvPr/>
        </p:nvSpPr>
        <p:spPr>
          <a:xfrm>
            <a:off x="2743200" y="3733920"/>
            <a:ext cx="49528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Woody Allen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Marlon Br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Robert Redford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Lorne Micha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nodeType="clickEffect" fill="hold">
                      <p:stCondLst>
                        <p:cond delay="0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8" dur="20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0" dur="20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533520" y="1447920"/>
            <a:ext cx="800100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ne point per correct ans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egative one point per incorrect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eam with the most points at the end of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game is the wi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Book Antiqua"/>
              </a:rPr>
              <a:t>GOOD LUCK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769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8"/>
          <p:cNvSpPr/>
          <p:nvPr/>
        </p:nvSpPr>
        <p:spPr>
          <a:xfrm>
            <a:off x="190440" y="169704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o was the highest paid celebrity last yea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9"/>
          <p:cNvSpPr/>
          <p:nvPr/>
        </p:nvSpPr>
        <p:spPr>
          <a:xfrm>
            <a:off x="1981080" y="3103560"/>
            <a:ext cx="6046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Kanye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Kylie J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Taylor Sw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Beyonc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20"/>
          <p:cNvSpPr/>
          <p:nvPr/>
        </p:nvSpPr>
        <p:spPr>
          <a:xfrm>
            <a:off x="304920" y="524520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 According to Forbes annual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i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f highest-paid celebrities, Jenner banked $590 million last year, thanks in large part to selling a majority stake in her cosmetics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nodeType="clickEffect" fill="hold">
                      <p:stCondLst>
                        <p:cond delay="0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7" dur="20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9" dur="20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2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2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788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8"/>
          <p:cNvSpPr/>
          <p:nvPr/>
        </p:nvSpPr>
        <p:spPr>
          <a:xfrm>
            <a:off x="304920" y="1905120"/>
            <a:ext cx="8458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at was the first produced full feature animated film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19"/>
          <p:cNvSpPr/>
          <p:nvPr/>
        </p:nvSpPr>
        <p:spPr>
          <a:xfrm>
            <a:off x="3429000" y="3581280"/>
            <a:ext cx="3657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Bambi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Snow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Pinocchi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Dum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nodeType="clickEffect" fill="hold">
                      <p:stCondLst>
                        <p:cond delay="0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0" dur="2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2" dur="20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18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 Forb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9"/>
          <p:cNvSpPr/>
          <p:nvPr/>
        </p:nvSpPr>
        <p:spPr>
          <a:xfrm>
            <a:off x="304920" y="1905120"/>
            <a:ext cx="8458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at was The first movie to be released with a PG-13 rating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20"/>
          <p:cNvSpPr/>
          <p:nvPr/>
        </p:nvSpPr>
        <p:spPr>
          <a:xfrm>
            <a:off x="2362320" y="3733920"/>
            <a:ext cx="5715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Dirty D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Red D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Ferris Bueller's Day Off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B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0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9" dur="2000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1" dur="20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825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9"/>
          <p:cNvSpPr/>
          <p:nvPr/>
        </p:nvSpPr>
        <p:spPr>
          <a:xfrm>
            <a:off x="304920" y="1905120"/>
            <a:ext cx="8458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at is the best-selling video game title of all-tim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0"/>
          <p:cNvSpPr/>
          <p:nvPr/>
        </p:nvSpPr>
        <p:spPr>
          <a:xfrm>
            <a:off x="2362320" y="3581280"/>
            <a:ext cx="5715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 Wii 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Grand Theft Auto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Mine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Fort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1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 Wikip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nodeType="clickEffect" fill="hold">
                      <p:stCondLst>
                        <p:cond delay="0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2" dur="200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4" dur="2000" fill="hold"/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844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8"/>
          <p:cNvSpPr/>
          <p:nvPr/>
        </p:nvSpPr>
        <p:spPr>
          <a:xfrm>
            <a:off x="304920" y="1905120"/>
            <a:ext cx="8458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at individual television show had the highest viewership ratings in histor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9"/>
          <p:cNvSpPr/>
          <p:nvPr/>
        </p:nvSpPr>
        <p:spPr>
          <a:xfrm>
            <a:off x="811080" y="37972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The 2015 Super Bowl (Patriots/Seahaw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The 2019 Women’s FIFA World Cup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The final episode of Seinfeld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The 2012 Olympic Games opening ceremony in Beij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nodeType="clickEffect" fill="hold">
                      <p:stCondLst>
                        <p:cond delay="0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5" dur="20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7" dur="20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862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18"/>
          <p:cNvSpPr/>
          <p:nvPr/>
        </p:nvSpPr>
        <p:spPr>
          <a:xfrm>
            <a:off x="304920" y="1905120"/>
            <a:ext cx="8458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at is the all-time best-selling album in the U.S.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9"/>
          <p:cNvSpPr/>
          <p:nvPr/>
        </p:nvSpPr>
        <p:spPr>
          <a:xfrm>
            <a:off x="990720" y="35053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Adele “2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Lady Gaga “Fame Monster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Michael Jackson’s “Thriller”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The Beatles “1967-1970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21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 Recording Industry of Am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nodeType="clickEffect" fill="hold">
                      <p:stCondLst>
                        <p:cond delay="0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4" dur="20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0" dur="20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881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17"/>
          <p:cNvSpPr/>
          <p:nvPr/>
        </p:nvSpPr>
        <p:spPr>
          <a:xfrm>
            <a:off x="533520" y="1600200"/>
            <a:ext cx="80010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Viner Hand ITC"/>
              </a:rPr>
              <a:t>Introducing SEM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Viner Hand ITC"/>
              </a:rPr>
              <a:t> </a:t>
            </a:r>
            <a:r>
              <a:rPr b="0" lang="en-US" sz="5400" spc="-1" strike="noStrike">
                <a:solidFill>
                  <a:srgbClr val="292929"/>
                </a:solidFill>
                <a:latin typeface="Viner Hand ITC"/>
              </a:rPr>
              <a:t>Classroom Trivia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iner Hand ITC"/>
              </a:rPr>
              <a:t>E N 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1066680" y="1066680"/>
            <a:ext cx="7162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pperplate Gothic Bold"/>
              </a:rPr>
              <a:t>Preliminary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2438280" y="22096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pperplate Gothic Bold"/>
              </a:rPr>
              <a:t>What is S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1143000" y="335268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Sports Every Morning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Sports and Entertainmen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Sports Evolutionary Marketing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Sports and Entertainment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0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1"/>
          <p:cNvSpPr/>
          <p:nvPr/>
        </p:nvSpPr>
        <p:spPr>
          <a:xfrm>
            <a:off x="457200" y="1676520"/>
            <a:ext cx="8153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pperplate Gothic Bold"/>
              </a:rPr>
              <a:t>What is the all-time high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pperplate Gothic Bold"/>
              </a:rPr>
              <a:t>grossing box office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2514600" y="3276720"/>
            <a:ext cx="5638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Star Wars: Force Awa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Ava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Titanic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Avengers: End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380880" y="5410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*** Avengers Endgame has generated nearly $3 billion in worldwide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380880" y="175248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How many hours per day does the average American spend watching televi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3429000" y="3581280"/>
            <a:ext cx="5715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2  Hours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4 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6  Hours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8 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ource: csun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304920" y="19051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Forms of sports marketing were first identified as early as what y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9"/>
          <p:cNvSpPr/>
          <p:nvPr/>
        </p:nvSpPr>
        <p:spPr>
          <a:xfrm>
            <a:off x="3581280" y="3886200"/>
            <a:ext cx="4114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1712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1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1912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19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228600" y="1752480"/>
            <a:ext cx="8381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at is the most streamed song of all-time on spotif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1676520" y="3191040"/>
            <a:ext cx="72388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Billie Eilish:  “Bad Guy”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Ariana Grande:  “7 Ring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Drake: “One Dance”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Ed Sheeran:  “Shape of Yo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3"/>
          <p:cNvSpPr/>
          <p:nvPr/>
        </p:nvSpPr>
        <p:spPr>
          <a:xfrm>
            <a:off x="380880" y="5410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*** Sheeran’s “Shape of You” is the only song ever to be streamed more than 2 billion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20:37:24Z</dcterms:created>
  <dc:creator>Copyright © 2007 by Sports Career Consulting, LLC.  All Rights Reserved.</dc:creator>
  <dc:description/>
  <dc:language>en-US</dc:language>
  <cp:lastModifiedBy>Chris Lindauer</cp:lastModifiedBy>
  <dcterms:modified xsi:type="dcterms:W3CDTF">2020-08-03T17:03:28Z</dcterms:modified>
  <cp:revision>149</cp:revision>
  <dc:subject/>
  <dc:title>Slide 1</dc:title>
</cp:coreProperties>
</file>