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3E0-D821-41DA-BDB4-3114DFA1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FBB6-E03C-40DB-9888-DED3CD60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B33-47EC-48D5-A965-434F8B24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2D36-3FBA-4F66-A482-66CB4A30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0E61-B11B-401A-B443-5637D3C8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CEBA-0F77-4C83-A78C-28F079C7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DAF-02A5-4151-B15E-F4CE5FD0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4035-4702-41B4-BA22-98D2DB82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0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77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280" y="152280"/>
            <a:ext cx="8686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Lesson 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 Black"/>
              </a:rPr>
              <a:t>Important Milestones in SEM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486400" y="63244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5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5"/>
          <p:cNvSpPr/>
          <p:nvPr/>
        </p:nvSpPr>
        <p:spPr>
          <a:xfrm>
            <a:off x="228600" y="220536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869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Cincinnati Red Stockings are first tea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have every player on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23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First endorsement deal (golfer Gene Sara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and Wilson Sporting Go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28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Coke teams up with the Olympics as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“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official sponsor” of an athletic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49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First major female endorsement d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5720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lestones in Sports Marketing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58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5"/>
          <p:cNvSpPr/>
          <p:nvPr/>
        </p:nvSpPr>
        <p:spPr>
          <a:xfrm>
            <a:off x="533520" y="197640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51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Bill Veeck sends 3’7” player to bat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official game as a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79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ESPN Deb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0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Syracuse University sells facility n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rights to play in the “Carrier D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4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Olympics made profitable for the first time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2003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The Chicago Bears become “The Chic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Bears presented by Bank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5720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lestones in Sports Marketing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64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5"/>
          <p:cNvSpPr/>
          <p:nvPr/>
        </p:nvSpPr>
        <p:spPr>
          <a:xfrm>
            <a:off x="495360" y="2155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2010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FIFA (the governing body for soccer internationally) estimates that just over 3 billion people – nearly half of the world’s population – tunes in to watch the 2010 FIFA Men’s World Cup Final held in South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2016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Twitter signs deals with sports properties like Wimbledon the NFL, MLB, NBA and MLB to become the first legitimate social media platform to live-stream major league sports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720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lestones in Sports Marketing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70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5"/>
          <p:cNvSpPr/>
          <p:nvPr/>
        </p:nvSpPr>
        <p:spPr>
          <a:xfrm>
            <a:off x="228600" y="1825200"/>
            <a:ext cx="86868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19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Recording and sound on motion picture film 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20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Radio stations begin to air regularly schedu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3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RCA establishes the National Broadca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Company (N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5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The first color television sets are 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55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Disneyland opens in Anaheim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6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-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The first regional theme park, Six Flags, o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in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estones in Entertainment Marketing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76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Rectangle 5"/>
          <p:cNvSpPr/>
          <p:nvPr/>
        </p:nvSpPr>
        <p:spPr>
          <a:xfrm>
            <a:off x="304920" y="1719000"/>
            <a:ext cx="8686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0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Turner Cable Network launches the first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news television network, C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IBM makes the first personal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available for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1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Music Television (MTV) is laun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3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The first compact disc i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85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- Nintendo introduces its home entertai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system for video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estones in Entertainment Marketing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977760"/>
            <a:chOff x="0" y="0"/>
            <a:chExt cx="9144000" cy="977760"/>
          </a:xfrm>
        </p:grpSpPr>
        <p:sp>
          <p:nvSpPr>
            <p:cNvPr id="82" name="Text Box 3"/>
            <p:cNvSpPr/>
            <p:nvPr/>
          </p:nvSpPr>
          <p:spPr>
            <a:xfrm>
              <a:off x="0" y="609480"/>
              <a:ext cx="9144000" cy="368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SSON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0" y="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 Black"/>
                </a:rPr>
                <a:t>History of S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5"/>
          <p:cNvSpPr/>
          <p:nvPr/>
        </p:nvSpPr>
        <p:spPr>
          <a:xfrm>
            <a:off x="228600" y="1912680"/>
            <a:ext cx="883908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1996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- Inventor receives patent for MP3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003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- Apple introduces iT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006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- Nintendo launches the Wii platfor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revolutionizing the video game industry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the introduction of motion sens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009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- Amazon introduces a digital book “e-reader” device known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as the Ki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2011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-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Justin.tv spins off its gaming division as Twitch,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creating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the platform that helped fuel the explosive growth of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  <a:ea typeface="MS PGothic"/>
              </a:rPr>
              <a:t>e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016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- Augmented reality goes mainstream with the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 introduction of Pokémon 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95480" y="662940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© </a:t>
            </a:r>
            <a:r>
              <a:rPr b="0" lang="is-IS" sz="1000" spc="-1" strike="noStrike">
                <a:solidFill>
                  <a:srgbClr val="ffffff"/>
                </a:solidFill>
                <a:latin typeface="Verdana"/>
              </a:rPr>
              <a:t>2020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estones in Entertainment Marketing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1:54:05Z</dcterms:created>
  <dc:creator>Copyright © 2012 by Sports Career Consulting, LLC</dc:creator>
  <dc:description/>
  <dc:language>en-US</dc:language>
  <cp:lastModifiedBy>Chris Lindauer</cp:lastModifiedBy>
  <dcterms:modified xsi:type="dcterms:W3CDTF">2020-07-27T03:30:47Z</dcterms:modified>
  <cp:revision>342</cp:revision>
  <dc:subject/>
  <dc:title>Lesson 1.5 - Slides-Important Milestones</dc:title>
</cp:coreProperties>
</file>