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32C7-207C-4E76-8B32-290C6211F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496C-2B29-4655-B215-1A3F98E15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4728-FD10-4A6F-9FB1-DBDA901D7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592C-FFD0-42AA-94D1-5BB841894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14AE-8F61-4870-AB70-4C26903A2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E066-6AC7-41FA-9B88-8C22E2DD7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EC32-C2AC-494F-A5B1-CC876E86D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14F9-31F8-47E9-8E7D-197FBB62B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B7AE-316F-4687-8C57-7157B77B0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3507-0C51-4A4B-8709-2E4A818A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138C-8531-4B92-B94E-DC3F7D9EC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31AD-2B16-4B95-8CA0-757CF67EA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79982-536F-4DAA-B95D-B792FAAE0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5943600" cy="914400"/>
          </a:xfrm>
          <a:prstGeom prst="rect">
            <a:avLst/>
          </a:prstGeom>
          <a:noFill/>
          <a:ln w="31680">
            <a:solidFill>
              <a:srgbClr val="00008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Book Antiqua"/>
              </a:rPr>
              <a:t>“</a:t>
            </a:r>
            <a:r>
              <a:rPr b="1" lang="en-US" sz="2800" spc="-1" strike="noStrike">
                <a:solidFill>
                  <a:srgbClr val="003366"/>
                </a:solidFill>
                <a:latin typeface="Book Antiqua"/>
              </a:rPr>
              <a:t>Fandom”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5943600" cy="7696080"/>
          </a:xfrm>
          <a:prstGeom prst="rect">
            <a:avLst/>
          </a:prstGeom>
          <a:solidFill>
            <a:srgbClr val="e5fa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609480" indent="0" algn="ctr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Project Backgroun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  <a:ea typeface="Tahoma"/>
              </a:rPr>
              <a:t>FANDOM’S IMPACT ON THE INDUST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Fandom is a term used to refer to a subculture of fans characterized by a feeling o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sympathy and camaraderie with others who share a common interest.  Ultimately, fandom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is what motivates the sports and entertainment consumer to make purchase decis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relating to available sports and entertainment product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The term fandom can be used to describe all types of fan groupings or “subcultures”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including Star Wars or Star Trek fans, fans of Luke Bryan or Lil’ Wayne or Dallas Cowboy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fans. Fans crave the experiences and want to be as close to the action as they can b.  A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a result sports properties have evolved to create opportunities to maximize fan engagemen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Sports and entertainment properties understand how important fandom is for business a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have taken measures to bring fans closer to the action (like NBA teams selling tickets to si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right next to the team bench) or creating unique fan experiences like “fantasy camps” o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in-game experiences like playing a high school basketball game on a NBA cour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One of the most notable ways we’ve seen the industry tap into fandom is the annual “V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Foundation” auction hosted by ESPN to raise money for cancer research.  They auction of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unique experiences for fans, such as a 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Star Wars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 VIP Tour of Lucasfilm studios, participa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 a fantasy football in-person draft with NASCAR star Dale Earnhardt Jr. and the chance t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watch a Dallas Mavericks game with the team owner, Mark Cuban (just to name a few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Project Descripti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For this project, you are to assume the role of the coordinator for a “fan experience”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auction similar to the one ESPN hosts for the V Foundation and cancer research.  The clas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will be split into groups.  Each group will create two experiences and on auction day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students will be given a fictitious dollar amount to spend and will bid on the variou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experiences provided by other students.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REQUIREMENTS:  Your “experience” must be very detailed…remember, your goal is t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maximize the amount bid to raise as much as possible for the charity of your choice!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Which charity benefits?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What is the required opening bid?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How will you coordinate the details?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What “value” is there for the fan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What is “off limits” for the fan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When will the experience take place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7"/>
          <p:cNvSpPr/>
          <p:nvPr/>
        </p:nvSpPr>
        <p:spPr>
          <a:xfrm>
            <a:off x="0" y="0"/>
            <a:ext cx="76320" cy="914400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8"/>
          <p:cNvSpPr/>
          <p:nvPr/>
        </p:nvSpPr>
        <p:spPr>
          <a:xfrm>
            <a:off x="152280" y="0"/>
            <a:ext cx="76320" cy="9144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0080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3"/>
          <p:cNvSpPr/>
          <p:nvPr/>
        </p:nvSpPr>
        <p:spPr>
          <a:xfrm>
            <a:off x="6781680" y="0"/>
            <a:ext cx="76320" cy="914400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4"/>
          <p:cNvSpPr/>
          <p:nvPr/>
        </p:nvSpPr>
        <p:spPr>
          <a:xfrm>
            <a:off x="6629400" y="0"/>
            <a:ext cx="76320" cy="9144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0080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5"/>
          <p:cNvSpPr/>
          <p:nvPr/>
        </p:nvSpPr>
        <p:spPr>
          <a:xfrm>
            <a:off x="0" y="0"/>
            <a:ext cx="6858000" cy="763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26"/>
          <p:cNvSpPr/>
          <p:nvPr/>
        </p:nvSpPr>
        <p:spPr>
          <a:xfrm>
            <a:off x="0" y="8915400"/>
            <a:ext cx="685800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7"/>
          <p:cNvSpPr/>
          <p:nvPr/>
        </p:nvSpPr>
        <p:spPr>
          <a:xfrm>
            <a:off x="685800" y="8991720"/>
            <a:ext cx="5829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opyright © 2020 by Sports Career Consulting, LLC. 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9"/>
          <p:cNvSpPr/>
          <p:nvPr/>
        </p:nvSpPr>
        <p:spPr>
          <a:xfrm>
            <a:off x="6553080" y="89917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0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685800" cy="522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1" descr=""/>
          <p:cNvPicPr/>
          <p:nvPr/>
        </p:nvPicPr>
        <p:blipFill>
          <a:blip r:embed="rId2"/>
          <a:stretch/>
        </p:blipFill>
        <p:spPr>
          <a:xfrm>
            <a:off x="5562720" y="380880"/>
            <a:ext cx="685800" cy="5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5T21:10:33Z</dcterms:created>
  <dc:creator>Copyright © 2008 by Sports Career Consulting, LLC.  All Rights Reserved.</dc:creator>
  <dc:description/>
  <dc:language>en-US</dc:language>
  <cp:lastModifiedBy>Chris Lindauer</cp:lastModifiedBy>
  <dcterms:modified xsi:type="dcterms:W3CDTF">2020-07-26T22:53:31Z</dcterms:modified>
  <cp:revision>91</cp:revision>
  <dc:subject>Copyright © 2008 by Sports Career Consulting, LLC.  All Rights Reserved.</dc:subject>
  <dc:title>Event Management Project</dc:title>
</cp:coreProperties>
</file>