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690B-BFA9-4797-90BC-F5BC832901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D01B-2681-443C-AD4B-1FDAF32401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72B3-202F-4A99-9788-8877D986B1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EE1E-6352-47E1-B90D-BFF17EB2A6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CB0A-D933-4950-81F9-CDF8BD767E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1F5C-AFC9-494F-8631-2D368C63DC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0AA9-C1D2-4732-B13B-B6C5DC2AF1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759F-2DF0-4823-9060-BB4AB22E6C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7514-EB0D-4440-A316-48FFFDC9D2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D3F6-F826-4CD7-891E-66DA293935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7373-FDB3-48CE-AD1A-DD692D3ECE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3442-B706-4B32-82B0-3C40D70988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77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il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52280" y="152280"/>
            <a:ext cx="8686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 Black"/>
              </a:rPr>
              <a:t>Lesson 1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 Black"/>
              </a:rPr>
              <a:t>Industry Pion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486400" y="632448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16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6"/>
          <p:cNvSpPr/>
          <p:nvPr/>
        </p:nvSpPr>
        <p:spPr>
          <a:xfrm>
            <a:off x="2286000" y="1600200"/>
            <a:ext cx="5715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even Spielbe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eve Jo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Vince McMa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ichael Jacks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JK Row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ed Tu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an </a:t>
            </a:r>
            <a:r>
              <a:rPr b="0" lang="ja-JP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uffy</a:t>
            </a:r>
            <a:r>
              <a:rPr b="0" lang="ja-JP" sz="2400" spc="-1" strike="noStrike">
                <a:solidFill>
                  <a:srgbClr val="000066"/>
                </a:solidFill>
                <a:latin typeface="Verdana"/>
              </a:rPr>
              <a:t>”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Com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hawn Fanning &amp; Sean P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el Kni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219320" y="9144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tertainment Industry Pion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2" dur="2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8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22" name="Text Box 9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11"/>
          <p:cNvSpPr/>
          <p:nvPr/>
        </p:nvSpPr>
        <p:spPr>
          <a:xfrm>
            <a:off x="4094640" y="990720"/>
            <a:ext cx="33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chael Jack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2895480" y="1854720"/>
            <a:ext cx="609624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First African American artist to find stardom on MTV, breaking down innumerable boundaries both for his race and for music video as an art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Won a record eight Grammys in one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Earned the largest endorsement deal ever when Pepsi paid him $5 million to be their spokespers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5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52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5"/>
          <p:cNvSpPr/>
          <p:nvPr/>
        </p:nvSpPr>
        <p:spPr>
          <a:xfrm>
            <a:off x="1828800" y="9907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orts Industry Pion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600200" y="2286000"/>
            <a:ext cx="6248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Pierre de Couber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Bill Ve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Mark McCorm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Mildred </a:t>
            </a:r>
            <a:r>
              <a:rPr b="0" lang="ja-JP" sz="2400" spc="-1" strike="noStrike">
                <a:solidFill>
                  <a:srgbClr val="0066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Babe</a:t>
            </a:r>
            <a:r>
              <a:rPr b="0" lang="ja-JP" sz="2400" spc="-1" strike="noStrike">
                <a:solidFill>
                  <a:srgbClr val="006600"/>
                </a:solidFill>
                <a:latin typeface="Verdana"/>
              </a:rPr>
              <a:t>”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Didrikson Zah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Roone Arledg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Jackie Rob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58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5"/>
          <p:cNvSpPr/>
          <p:nvPr/>
        </p:nvSpPr>
        <p:spPr>
          <a:xfrm>
            <a:off x="9144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Mildred </a:t>
            </a:r>
            <a:r>
              <a:rPr b="0" lang="ja-JP" sz="3200" spc="-1" strike="noStrike">
                <a:solidFill>
                  <a:srgbClr val="0066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Babe</a:t>
            </a:r>
            <a:r>
              <a:rPr b="0" lang="ja-JP" sz="3200" spc="-1" strike="noStrike">
                <a:solidFill>
                  <a:srgbClr val="006600"/>
                </a:solidFill>
                <a:latin typeface="Verdana"/>
              </a:rPr>
              <a:t>”</a:t>
            </a: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 Didrikson Zah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048120" y="1779120"/>
            <a:ext cx="609588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dely regarded as the greatest female athlete of al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ed team track event and won the entire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female athlete to sign an endorsement contract, signing with Wilson Sporting Goods in 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-founder of the Ladies Professional Golf Association (LPGA) in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38862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oto Courtesy:  http://cbs.sportsline.com/images/century/Didrikson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Didrikson"/>
          <p:cNvPicPr/>
          <p:nvPr/>
        </p:nvPicPr>
        <p:blipFill>
          <a:blip r:embed="rId1"/>
          <a:stretch/>
        </p:blipFill>
        <p:spPr>
          <a:xfrm>
            <a:off x="152280" y="1752480"/>
            <a:ext cx="2381400" cy="2095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wilson_logo"/>
          <p:cNvPicPr/>
          <p:nvPr/>
        </p:nvPicPr>
        <p:blipFill>
          <a:blip r:embed="rId2"/>
          <a:stretch/>
        </p:blipFill>
        <p:spPr>
          <a:xfrm>
            <a:off x="228600" y="4952880"/>
            <a:ext cx="90792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LPGA-Tour210"/>
          <p:cNvPicPr/>
          <p:nvPr/>
        </p:nvPicPr>
        <p:blipFill>
          <a:blip r:embed="rId3"/>
          <a:stretch/>
        </p:blipFill>
        <p:spPr>
          <a:xfrm>
            <a:off x="1447920" y="48006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8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68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5"/>
          <p:cNvSpPr/>
          <p:nvPr/>
        </p:nvSpPr>
        <p:spPr>
          <a:xfrm>
            <a:off x="1828800" y="9907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orts Industry Pion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981080" y="2286000"/>
            <a:ext cx="51818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ohammed 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illiam (Bill) H.G. France S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rnold 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ete Roz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ichael Jor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avid 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Jon Spoelstr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74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5"/>
          <p:cNvSpPr/>
          <p:nvPr/>
        </p:nvSpPr>
        <p:spPr>
          <a:xfrm>
            <a:off x="4114800" y="990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Michael J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2743200" y="1596600"/>
            <a:ext cx="609588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ed as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ir Jorda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ponsible for the emergenc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hlete/shoe company partner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of successful 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sales of Nike sne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1998, Fortune Magaz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ed that Jordan 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ted $9.9 billion for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Jordan02"/>
          <p:cNvPicPr/>
          <p:nvPr/>
        </p:nvPicPr>
        <p:blipFill>
          <a:blip r:embed="rId1"/>
          <a:stretch/>
        </p:blipFill>
        <p:spPr>
          <a:xfrm>
            <a:off x="304920" y="1066680"/>
            <a:ext cx="2023920" cy="50292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9"/>
          <p:cNvSpPr/>
          <p:nvPr/>
        </p:nvSpPr>
        <p:spPr>
          <a:xfrm>
            <a:off x="0" y="6248520"/>
            <a:ext cx="29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oto Courtesy:  http://en.wikipedia.org/wiki/Michael_Jord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82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5"/>
          <p:cNvSpPr/>
          <p:nvPr/>
        </p:nvSpPr>
        <p:spPr>
          <a:xfrm>
            <a:off x="1219320" y="9907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tertainment Industry Pion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438280" y="1905120"/>
            <a:ext cx="56390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.T. Bar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alt Dis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dolph Zuk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harlie Chapl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ouis Arm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ucille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Jerry Siegel &amp; Joe Sch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odgers &amp; Hammerste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88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5"/>
          <p:cNvSpPr/>
          <p:nvPr/>
        </p:nvSpPr>
        <p:spPr>
          <a:xfrm>
            <a:off x="4572000" y="990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Verdana"/>
              </a:rPr>
              <a:t>Adolph Zu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3276720" y="1435680"/>
            <a:ext cx="6095880" cy="54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Founded Paramount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In 1912, he made entertai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history when he offered th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American public its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feature-length fi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In 1919, bought 135 theaters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the Southern states, making h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the first individual owner of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theater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Built the Paramount Theater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New York 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617220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oto Courtesy:  http://www.treknews.de/treknews/newspro-treknews/upload/newsbilder/paramountsp02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paramountsp02"/>
          <p:cNvPicPr/>
          <p:nvPr/>
        </p:nvPicPr>
        <p:blipFill>
          <a:blip r:embed="rId1"/>
          <a:stretch/>
        </p:blipFill>
        <p:spPr>
          <a:xfrm>
            <a:off x="304920" y="4114800"/>
            <a:ext cx="2124000" cy="1905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ZUK57"/>
          <p:cNvPicPr/>
          <p:nvPr/>
        </p:nvPicPr>
        <p:blipFill>
          <a:blip r:embed="rId2"/>
          <a:stretch/>
        </p:blipFill>
        <p:spPr>
          <a:xfrm>
            <a:off x="380880" y="1143000"/>
            <a:ext cx="181620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3"/>
          <p:cNvSpPr/>
          <p:nvPr/>
        </p:nvSpPr>
        <p:spPr>
          <a:xfrm>
            <a:off x="0" y="365760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oto Courtesy:  http://www.horatioalger.com/members/jpegs/ZUK57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98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7"/>
          <p:cNvSpPr/>
          <p:nvPr/>
        </p:nvSpPr>
        <p:spPr>
          <a:xfrm>
            <a:off x="1066680" y="1676520"/>
            <a:ext cx="76964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he Bea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lvis Pres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rank Sina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illiam Hanna &amp; Joseph Barb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r. Se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iroshi Yamau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eve Allen, Ed Sullivan &amp; Johnny Ca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ort S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Jim He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219320" y="9907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tertainment Industry Pion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1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35000" y="13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5638680" y="3580920"/>
            <a:ext cx="32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oto Courtesy:  www.universohq.com/ cinema/nc24032001_01.cf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443960"/>
            <a:ext cx="551808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Founded Hanna-Barbera studios</a:t>
            </a:r>
            <a:r>
              <a:rPr b="0" lang="en-US" sz="1000" spc="-1" strike="noStrike">
                <a:solidFill>
                  <a:srgbClr val="8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One of the first animators 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bring live character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television (Flintstones, Yo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Bear, The Jetsons, Scooby D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and The Smurfs)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Helped drive the popularity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turday morning cartoons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we se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177200" y="914400"/>
            <a:ext cx="69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lliam Hanna and Joseph Barbe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William Hanna e suas criações"/>
          <p:cNvPicPr/>
          <p:nvPr/>
        </p:nvPicPr>
        <p:blipFill>
          <a:blip r:embed="rId1"/>
          <a:stretch/>
        </p:blipFill>
        <p:spPr>
          <a:xfrm>
            <a:off x="5791320" y="1676520"/>
            <a:ext cx="3124080" cy="18748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4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108" name="Text Box 15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18" descr="logo"/>
          <p:cNvPicPr/>
          <p:nvPr/>
        </p:nvPicPr>
        <p:blipFill>
          <a:blip r:embed="rId2"/>
          <a:stretch/>
        </p:blipFill>
        <p:spPr>
          <a:xfrm>
            <a:off x="5943600" y="3809880"/>
            <a:ext cx="2666880" cy="1508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photo_GEORGE4"/>
          <p:cNvPicPr/>
          <p:nvPr/>
        </p:nvPicPr>
        <p:blipFill>
          <a:blip r:embed="rId3"/>
          <a:stretch/>
        </p:blipFill>
        <p:spPr>
          <a:xfrm>
            <a:off x="4267080" y="5334120"/>
            <a:ext cx="1171800" cy="12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2" descr="shag"/>
          <p:cNvPicPr/>
          <p:nvPr/>
        </p:nvPicPr>
        <p:blipFill>
          <a:blip r:embed="rId4"/>
          <a:stretch/>
        </p:blipFill>
        <p:spPr>
          <a:xfrm>
            <a:off x="8001000" y="4952880"/>
            <a:ext cx="985680" cy="1428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smurfette(Smurfs)"/>
          <p:cNvPicPr/>
          <p:nvPr/>
        </p:nvPicPr>
        <p:blipFill>
          <a:blip r:embed="rId5"/>
          <a:stretch/>
        </p:blipFill>
        <p:spPr>
          <a:xfrm>
            <a:off x="6248520" y="5334120"/>
            <a:ext cx="1028520" cy="12189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6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21:54:05Z</dcterms:created>
  <dc:creator>Copyright © 2012 by Sports Career Consulting, LLC</dc:creator>
  <dc:description/>
  <dc:language>en-US</dc:language>
  <cp:lastModifiedBy>Chris Lindauer</cp:lastModifiedBy>
  <dcterms:modified xsi:type="dcterms:W3CDTF">2020-07-27T03:30:12Z</dcterms:modified>
  <cp:revision>336</cp:revision>
  <dc:subject/>
  <dc:title>Lesson 1.4 - Slides-Industry Pioneers</dc:title>
</cp:coreProperties>
</file>