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7AB-C84F-4CA6-8218-2BD42077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176-E085-4FB1-836B-CD3BEE5C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FDD2B-2619-49EF-9B5C-BDB6DFE6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86D64-FA66-4B2D-9C54-D4F76E98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294D7-2475-4372-BA45-8DE1A5B3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1BB66-9A49-43BC-9504-7FA0393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261B2-A75C-4324-88DC-DC98ACE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6B7AE-6876-4046-95F8-2C636ECF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E7EAB-49CC-4251-B226-DA1C129C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DC3BA-BCA8-44EA-AB95-9B6594B5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5F8C-E83B-4B54-931D-8A96B373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CE86F-51A8-432E-94E7-CFE1BAFE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040-A631-4F64-BAD8-618425CD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50969-0A0A-4789-9282-854ADC6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744CE-CF61-492B-BD56-43F7091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10AC-C8A5-45A3-A8F3-47E40765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04D5A-E051-47D7-B541-D29484D0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00815-3B9E-4073-94E1-CE638E96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CF750-7915-4E36-A756-B836B5A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6D3C3-46E0-47D4-8149-D309C78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72CDF-FC7E-4995-A6FF-9FCE153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1A256-04A0-4F98-90D4-0D4D1B4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506DE-3156-412D-9370-9D48A5A6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C5B-3265-44D9-8FE3-655092D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3B624-EE88-4E5D-9BF7-32D6F1B0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6AE91-3423-4E13-ACDF-22B3903F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2246F-C873-4DB8-A2C9-3097FE52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0A84B-080D-44E4-BB12-83D02BBE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2887-B92F-4198-ABBC-EADC27F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FF330-82D1-4863-8C53-91AEF55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442BF-3F36-42A9-A820-12CD2D9D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DA82B-3BD5-48CF-85B7-3BFB1E0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DF4F5-2DF0-47F6-9E66-83B98CD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F68D8-D90B-425A-A794-E62A87D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D00B-68EB-44B7-8D28-A586581F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4459A-2B58-4598-9085-F91011BD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82875-3E86-42EE-9346-5E41130D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60B8F-C64D-4905-A800-516E968E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13B93-D086-4FE9-9BC4-A3630FB4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3E9D6-7D71-439C-95AF-18E1D4B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86490-2AD2-4DDF-95E1-87848F7D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B568C-D816-4094-BAB5-805F1994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9AED8-56A1-4376-A11F-617DCEF4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90AC2-A70F-45F9-AD9E-DA4C5DB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5A1A8-A4C3-4579-8718-6696F1A7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7AE-075A-44A5-B062-60E4936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8BF62-9409-4B66-A698-9BF9738B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E0393-586A-4A47-ACF0-99AE737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C4DFE-CB5E-4781-886B-14374EFA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A16DB-CFB2-441D-807C-7B1994B4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45A0-1915-46B2-840D-3DC87C9A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D9680-2F96-4AA5-9C21-75953873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E2957-17F3-443F-B5A3-581044AC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5CF36-8C5A-4C98-BC44-D72F798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C977F-F4FE-464B-9762-5ACC904F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D96D8-AA1F-4879-BF80-F2635206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03DB-CE59-4E34-BDAC-A7F98E42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3F3A6-BE50-40D8-9547-53BD7D5C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37496-6B29-45CD-B5B0-A001821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7255C-D5BC-4D1D-84AD-7E34E4B5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31E99-D670-4A5F-AE09-21AB8D2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287E6-4ED1-4CB3-8680-A796AAF0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16DDC-9E51-4D18-90B2-813E0D23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5B68B-8AA1-406B-A034-F112A075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72864-7D04-4E28-8D71-2DA1341C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4F858-8138-446E-B310-A1A45FA0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910B5-CA9F-4242-9AC1-43A26B56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C398-2B5F-439C-8435-F027FB0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8C996-AD86-4D3B-AD1A-ABBFA079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9CEDD-AB6A-45EF-8C9D-7692C873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079BE-8654-4D8D-B10C-075AF1E0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EE5CE-43BD-4209-AE9D-3696AEE7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43381-689E-4E73-ADBC-097A83B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12F30-9A70-4809-8926-12B3467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1AC1A-7997-419A-838D-0523738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431DA-ACD3-4B9B-8443-4AAB091A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E8A5A-CCB9-4101-8B36-03980364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2DC-1591-465B-8595-C422C1C4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CE4-15FB-4727-A9ED-C3775EE0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9D09-E7E8-488C-90CF-192A49B7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C92-761D-42E1-9F48-35256A8F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232C-AD04-4857-8F6A-BCC01BA2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9CD-2AAE-4746-836C-18BAE7D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8BF0-2D9D-4F06-9315-E7A0DA8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4A31-0EA9-4961-A407-77714D03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941-D385-402F-8261-F90AA7F1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58C2-2F18-4F04-BEE2-6C4CC061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71B1-15EF-4726-ACC4-20560F4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BC8C-54BC-47B9-AF40-2583D8E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9CE2-3BA3-4B11-BFAD-6458E59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29FD-5D66-4FF6-A1A5-435B865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686-937B-41EC-9933-C32BBCA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10CD-CAB8-4828-8C34-A77F4CE9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4A26-D3C6-4096-BE47-D22A5B8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0BEF-835F-4769-B34C-F892492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3476-FC64-41C5-A3C2-8170D9C6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09FD-7624-45EC-A278-41D1B0A0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FB51-8442-4173-895D-D5E3669B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9FF1-909A-4047-B10A-3140E8CC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2E72-19B7-4289-ADD2-05988C7D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94A1-245A-4ECE-8B99-8415C322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63B5-3A11-41A4-9A2D-E9E59A7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DA8-B256-4C61-8DE7-E9964D66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6B61-CFC3-4B0C-8B52-F3303808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64F3-02B7-416D-8F44-E1FEC630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CF1B-BF54-40AB-8880-EA16813F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3AE9-E7CA-45B8-809C-7CCD3EC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E7E8-84FD-4B44-9659-3A141D6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2F6B-E61C-4BE3-A292-776B5534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9F4A-B4E6-43D3-8AC3-D106F37B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372D-6E70-4F2F-8F24-ADB49D9C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AE9F-98F7-4973-9AE5-98C7B4BB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3EF1-BF9B-4F3D-9D31-47AF56A5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CD3-F4C9-46DB-9A5C-EE7F08D0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7D5A-29ED-4484-8B50-F854707D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8F0C-62E3-41BE-AFC1-205585B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8AEB-007A-4FCA-A613-A87D58A4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7A6F-1F7F-4F54-A34E-C042E4B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99D4-364E-49AF-9FAB-2789D5F8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4770-6834-4A7A-ABEF-516FE88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1175-AE21-4A25-803B-92B03FBC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0B97-D2CD-4DB4-BE19-374A470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D560-F303-4336-9EFD-DA33F064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D73D-AFE3-4789-A377-F758AFF9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4F6-DD27-4DF2-AC20-3D3D296A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1879-6CEE-4D56-AC5C-E1AFF9A1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6F282-5383-4722-8575-531A9066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3C3C-C885-427A-8889-98C0019A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9606-0FBF-4B94-81B6-6F9853BE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FB47E-89AD-45E6-A1B0-AD0C314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FD6C6-E774-4BC6-91B8-1D07B221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190E-93D3-4477-981B-3E6A4C8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B7F4B-54EC-41C0-9F6E-2AE4F445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5D1D-B6D2-4C11-910A-AA317F92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6B5B4-0779-4890-AFC2-96027243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A9F-5A04-47DB-AC49-5F949AC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551A-ABB8-4F7A-992D-71B0E3FF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8EBA-CBA7-4158-B511-1712D6E3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E13F-ED14-4AF2-A0D6-E1369F13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4614D-AC1B-4D5D-8C08-828A987F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31094-7D46-412A-AA2E-037C964B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133B6-A73C-4A6F-A2A3-9480763B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ADC8-4747-4CC4-B5C3-B72796F5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B2442-AE36-4B54-B697-23E6282E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C46A9-6F78-46FE-9A18-CB07B85F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F15F-AA03-4D1F-A68A-7E407980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D80-ACCA-4BE9-AB03-AF62FC1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F316D-ED6F-41F6-9811-5E87AB2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DC5EB-98ED-44B8-BFAB-07B7337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B4C5E-1674-463F-9D43-9700639F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649B-F31D-45A2-A0DB-44FCF4DF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E6609-4BE1-43EE-9159-866B7F01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A1140-D91A-4FB7-8B6B-27DD74AE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CCE6F-2F83-462E-ADB0-C60EB78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8BBF-159A-4882-8752-3F7F3F9B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3FE36-67E7-43BF-83C0-3AE29901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6AFD5-6DAD-4ACA-BD80-FC2B74F4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9BE-9E5F-413E-A585-054A416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24B3-D5F6-4ADC-9A13-8534C008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97F75-8D4C-4BB3-9FA7-1B3D4EB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30C5-7DD2-4C31-819B-66CAA98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DD019-B002-4986-BC05-99FBFDBC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3D3A2-D536-4F87-8DAE-A20FC8BA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89CBE-0379-4D3B-9F1F-8E3AB673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74AEB-7E77-4DF2-BE8C-88BB0659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0738A-97E3-44D0-8D34-B14696D2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A6F67-6A7D-424A-8974-6CF7C05C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EE55B-B6C7-4BE5-B0C3-BECA30A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70D-AE19-425E-8FC4-CF5CEEA27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5DCF-47CF-4187-9B5C-866FB93B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5838-47B4-4974-8A0B-6DB17B37C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87C3-0119-41A1-921A-58E012540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F616-6F9D-42E6-97BE-04DF6AAF1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FADF-51BE-454F-B772-34061486B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8C67-E3D3-434F-AE1D-4374B65B7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8761-D6EF-40C7-8AA0-BA7FE1D86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52A5-95C5-47FA-BC2B-9B85905EA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162-9A89-425E-96C5-37E1D1673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AB8-435D-45F9-9455-523638C65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80FF-5BBA-49D5-AEBD-295383D55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6DE3-49D4-4E56-88FD-63BF30207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B405-4476-42B1-9EB9-D1553D495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rairie Ridge Horn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ommunity Dodgeball Extravaganz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http://anchorbaysportsfacility.com/Portals/1/Dodgeball.gif"/>
          <p:cNvPicPr/>
          <p:nvPr/>
        </p:nvPicPr>
        <p:blipFill>
          <a:blip r:embed="rId3"/>
          <a:stretch/>
        </p:blipFill>
        <p:spPr>
          <a:xfrm>
            <a:off x="3581280" y="2590920"/>
            <a:ext cx="2295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Partnershi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Opportunit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Your chance to support the biggest dodgeball tournament ev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Why Partner With U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Benefits listed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http://www.whschapspg.com/wp-content/uploads/2011/05/dodgeball.jpg"/>
          <p:cNvPicPr/>
          <p:nvPr/>
        </p:nvPicPr>
        <p:blipFill>
          <a:blip r:embed="rId3"/>
          <a:stretch/>
        </p:blipFill>
        <p:spPr>
          <a:xfrm>
            <a:off x="3429000" y="2590920"/>
            <a:ext cx="25113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rtnership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  <p:sp>
        <p:nvSpPr>
          <p:cNvPr id="596" name="Subtitle 2"/>
          <p:cNvSpPr/>
          <p:nvPr/>
        </p:nvSpPr>
        <p:spPr>
          <a:xfrm>
            <a:off x="533520" y="1523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(List inventory he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* Presenting sponsor r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* Merchandising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*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  <p:sp>
        <p:nvSpPr>
          <p:cNvPr id="602" name="Subtitle 2"/>
          <p:cNvSpPr/>
          <p:nvPr/>
        </p:nvSpPr>
        <p:spPr>
          <a:xfrm>
            <a:off x="533520" y="1523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(List packages / rate card he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ck level package (list what it includes) … then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Yellow level package … et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  <p:sp>
        <p:nvSpPr>
          <p:cNvPr id="608" name="Subtitle 2"/>
          <p:cNvSpPr/>
          <p:nvPr/>
        </p:nvSpPr>
        <p:spPr>
          <a:xfrm>
            <a:off x="533520" y="1523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e sure to let potential partners know they have the option to customize a package to fit their needs!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he “Stinger” Pack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  <p:sp>
        <p:nvSpPr>
          <p:cNvPr id="614" name="Subtitle 2"/>
          <p:cNvSpPr/>
          <p:nvPr/>
        </p:nvSpPr>
        <p:spPr>
          <a:xfrm>
            <a:off x="304920" y="106668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Presenting rights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$1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1 page program ad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$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Branding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$1,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(logo on participant t-shirts) 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(includes cost of t-shi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Event signage (1 banner on court)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$1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Retail Price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$3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“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Stinger” discounted  package price 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$2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LANK SLIDES FOR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2" descr="http://t2.gstatic.com/images?q=tbn:ANd9GcQI_LEaQ_Zl7LW0p9w4z0ob1F9j48Kvl02rBpVOzAPXMAsTtdS-mQ"/>
          <p:cNvPicPr/>
          <p:nvPr/>
        </p:nvPicPr>
        <p:blipFill>
          <a:blip r:embed="rId1"/>
          <a:stretch/>
        </p:blipFill>
        <p:spPr>
          <a:xfrm>
            <a:off x="7610400" y="5181480"/>
            <a:ext cx="1533600" cy="16765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3"/>
          <p:cNvSpPr/>
          <p:nvPr/>
        </p:nvSpPr>
        <p:spPr>
          <a:xfrm>
            <a:off x="22860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 Prairie Ridge Hornets High School Sports &amp;  Ev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rketing Club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4" descr="http://t3.gstatic.com/images?q=tbn:ANd9GcR8dCuTtf3omDZxlTACJKhYSq-Wow4EdMH7Vg9016CwMhE6NcOdXg"/>
          <p:cNvPicPr/>
          <p:nvPr/>
        </p:nvPicPr>
        <p:blipFill>
          <a:blip r:embed="rId2"/>
          <a:stretch/>
        </p:blipFill>
        <p:spPr>
          <a:xfrm>
            <a:off x="0" y="5181480"/>
            <a:ext cx="138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5:09:32Z</dcterms:created>
  <dc:creator>Owner</dc:creator>
  <dc:description/>
  <dc:language>en-US</dc:language>
  <cp:lastModifiedBy>Owner</cp:lastModifiedBy>
  <dcterms:modified xsi:type="dcterms:W3CDTF">2011-08-30T17:25:16Z</dcterms:modified>
  <cp:revision>5</cp:revision>
  <dc:subject/>
  <dc:title>Slide 1</dc:title>
</cp:coreProperties>
</file>