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E8E4-DAE1-412C-9AC7-D3A8D7FA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E09F-7980-4303-BAA5-228F50A4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2355-E669-48D0-AE81-EDD3DB69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B5F2-21E4-4255-B243-F8970C9F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B34C-5F63-4BFE-B035-AD2CEA3E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4C76-5BA2-4899-9109-57D9A3FA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50F0-1C08-413A-8C63-037B0926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EE3-36E7-48C8-835B-631F540F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3314-BDC6-4FD8-A377-6901AC1D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7C32-90BF-48D1-93E8-7DD60071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D05A-B751-4815-9034-624EBC44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5AAA-B0E0-4767-83BA-8902C036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FCDC-D9ED-42FE-8687-A0AA14A74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Prince George Cougars Logo - A Cougar coming out of a diamond"/>
          <p:cNvPicPr/>
          <p:nvPr/>
        </p:nvPicPr>
        <p:blipFill>
          <a:blip r:embed="rId1"/>
          <a:stretch/>
        </p:blipFill>
        <p:spPr>
          <a:xfrm>
            <a:off x="3657600" y="2819520"/>
            <a:ext cx="1447920" cy="117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81440" y="914760"/>
            <a:ext cx="47649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ak Mountain Cougar Athl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Main Street  ♦  Oak Mountain, VA 555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ak Mountain High School – Sports Business Cl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phone:  800.800.88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4400" y="4648320"/>
            <a:ext cx="517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 Marketing / Sponsorship /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hoose which word suits your program b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502080" y="365760"/>
            <a:ext cx="535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ak Mountain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rts Business C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048120"/>
            <a:ext cx="9144000" cy="236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40" y="3657600"/>
            <a:ext cx="897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ANK YOU SLIDE, reinforce the notion that their support enables them to re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nnect with something special…cougar prid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Prince George Cougars Logo - A Cougar coming out of a diamond"/>
          <p:cNvPicPr/>
          <p:nvPr/>
        </p:nvPicPr>
        <p:blipFill>
          <a:blip r:embed="rId1"/>
          <a:stretch/>
        </p:blipFill>
        <p:spPr>
          <a:xfrm>
            <a:off x="838080" y="380880"/>
            <a:ext cx="1447920" cy="1175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2280" y="2362320"/>
            <a:ext cx="28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ugar Pri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6320" y="63997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ommunity Partnership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7560" y="759600"/>
            <a:ext cx="705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ak Mountain Cougar Athl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ain Street  ♦  Oak Mountain, VA 555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k Mountain High School – Sports Business Cl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:  800.800.88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352680"/>
            <a:ext cx="914400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000" y="3657600"/>
            <a:ext cx="490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ommunity Partnershi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Prince George Cougars Logo - A Cougar coming out of a diamond"/>
          <p:cNvPicPr/>
          <p:nvPr/>
        </p:nvPicPr>
        <p:blipFill>
          <a:blip r:embed="rId1"/>
          <a:stretch/>
        </p:blipFill>
        <p:spPr>
          <a:xfrm>
            <a:off x="7238880" y="3657600"/>
            <a:ext cx="144792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02080" y="365760"/>
            <a:ext cx="535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ak Mountain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rts Business C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8120"/>
            <a:ext cx="9144000" cy="236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720" y="3200400"/>
            <a:ext cx="59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Use this area to brag about how great your school 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Prince George Cougars Logo - A Cougar coming out of a diamond"/>
          <p:cNvPicPr/>
          <p:nvPr/>
        </p:nvPicPr>
        <p:blipFill>
          <a:blip r:embed="rId1"/>
          <a:stretch/>
        </p:blipFill>
        <p:spPr>
          <a:xfrm>
            <a:off x="838080" y="380880"/>
            <a:ext cx="1447920" cy="1175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1560" y="236232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bout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0" y="3581280"/>
            <a:ext cx="39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We have XYZ number of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60" y="4038480"/>
            <a:ext cx="24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Faculty highligh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80" y="449568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Achievements/awar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" y="4952880"/>
            <a:ext cx="53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What else might appeal to a potential partn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6320" y="63997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ommunity Partnership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02080" y="365760"/>
            <a:ext cx="535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ak Mountain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rts Business C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048120"/>
            <a:ext cx="9144000" cy="236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00400"/>
            <a:ext cx="88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Use this area to brag about how great your school sports, events, theater etc 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Prince George Cougars Logo - A Cougar coming out of a diamond"/>
          <p:cNvPicPr/>
          <p:nvPr/>
        </p:nvPicPr>
        <p:blipFill>
          <a:blip r:embed="rId1"/>
          <a:stretch/>
        </p:blipFill>
        <p:spPr>
          <a:xfrm>
            <a:off x="838080" y="380880"/>
            <a:ext cx="1447920" cy="117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49040" y="2362320"/>
            <a:ext cx="71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ugar Athletics/Entertainment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80" y="3581280"/>
            <a:ext cx="46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Girls soccer conference champs in 20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80" y="4038480"/>
            <a:ext cx="44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Coach Davis recognized nationally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0" y="4495680"/>
            <a:ext cx="62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Drama club hosts three award winning plays per ye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720" y="4952880"/>
            <a:ext cx="53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What else might appeal to a potential partn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6320" y="63997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ommunity Partnership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502080" y="365760"/>
            <a:ext cx="535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ak Mountain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rts Business C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048120"/>
            <a:ext cx="9144000" cy="236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800" y="3200400"/>
            <a:ext cx="67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Use this area to brag about how wonderful the community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Prince George Cougars Logo - A Cougar coming out of a diamond"/>
          <p:cNvPicPr/>
          <p:nvPr/>
        </p:nvPicPr>
        <p:blipFill>
          <a:blip r:embed="rId1"/>
          <a:stretch/>
        </p:blipFill>
        <p:spPr>
          <a:xfrm>
            <a:off x="838080" y="380880"/>
            <a:ext cx="1447920" cy="1175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0120" y="2362320"/>
            <a:ext cx="52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ak Mountain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360" y="358128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highligh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360" y="403848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highligh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360" y="449568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highligh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720" y="4952880"/>
            <a:ext cx="53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What else might appeal to a potential partn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56320" y="63997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ommunity Partnership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502080" y="365760"/>
            <a:ext cx="535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ak Mountain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rts Business C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048120"/>
            <a:ext cx="9144000" cy="236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200400"/>
            <a:ext cx="76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Use this area to brag about community support of sports, event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Prince George Cougars Logo - A Cougar coming out of a diamond"/>
          <p:cNvPicPr/>
          <p:nvPr/>
        </p:nvPicPr>
        <p:blipFill>
          <a:blip r:embed="rId1"/>
          <a:stretch/>
        </p:blipFill>
        <p:spPr>
          <a:xfrm>
            <a:off x="838080" y="380880"/>
            <a:ext cx="1447920" cy="1175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9760" y="2362320"/>
            <a:ext cx="62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mmunity &amp; Sports Togeth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0" y="3581280"/>
            <a:ext cx="76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Over 50,000 people attended Oak Mountain football games last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03848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Every school play was sold ou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720" y="4495680"/>
            <a:ext cx="649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Girls soccer championship game broadcast on local TV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ousand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tuned in to  watc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6320" y="63997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ommunity Partnership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02080" y="365760"/>
            <a:ext cx="535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ak Mountain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rts Business C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048120"/>
            <a:ext cx="9144000" cy="236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2520" y="3200400"/>
            <a:ext cx="831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ak Mountain Sports Business Club wants to extend a unique partnersh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pportunity to our local business leade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Prince George Cougars Logo - A Cougar coming out of a diamond"/>
          <p:cNvPicPr/>
          <p:nvPr/>
        </p:nvPicPr>
        <p:blipFill>
          <a:blip r:embed="rId1"/>
          <a:stretch/>
        </p:blipFill>
        <p:spPr>
          <a:xfrm>
            <a:off x="838080" y="380880"/>
            <a:ext cx="1447920" cy="1175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1200" y="2362320"/>
            <a:ext cx="250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pport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2880" y="3886200"/>
            <a:ext cx="87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Unique partnerships to capitalize on school spirit and connect your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th our student bod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6480" y="46483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Your support will go a long way in building strong academic and athle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tion at Oak Mountain H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6320" y="63997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ommunity Partnership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02080" y="365760"/>
            <a:ext cx="535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ak Mountain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rts Business C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48120"/>
            <a:ext cx="9144000" cy="236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4680" y="3124080"/>
            <a:ext cx="87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You can invest in the future of Oak Mountain by supporting our programs.  W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 number of unique sponsorship 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Prince George Cougars Logo - A Cougar coming out of a diamond"/>
          <p:cNvPicPr/>
          <p:nvPr/>
        </p:nvPicPr>
        <p:blipFill>
          <a:blip r:embed="rId1"/>
          <a:stretch/>
        </p:blipFill>
        <p:spPr>
          <a:xfrm>
            <a:off x="838080" y="380880"/>
            <a:ext cx="1447920" cy="1175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640" y="2362320"/>
            <a:ext cx="23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1800" y="3886200"/>
            <a:ext cx="900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Signage (use extra slides to explain / offer more details /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ages etc. to really bring the presentation to life and customize for your cla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1800" y="464832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Game day sponsorship (use extra slides to explain / offer more details /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ages etc. to really bring the presentation to life and customize for your cla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6320" y="63997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ommunity Partnership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02080" y="365760"/>
            <a:ext cx="535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ak Mountain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rts Business C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048120"/>
            <a:ext cx="9144000" cy="236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520" y="3657600"/>
            <a:ext cx="907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You may want to consider leaving the rates slide blank, letting businesses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at you will custom build a sponsorship/partnership package to meet thei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nd that a proposal will follow with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Prince George Cougars Logo - A Cougar coming out of a diamond"/>
          <p:cNvPicPr/>
          <p:nvPr/>
        </p:nvPicPr>
        <p:blipFill>
          <a:blip r:embed="rId1"/>
          <a:stretch/>
        </p:blipFill>
        <p:spPr>
          <a:xfrm>
            <a:off x="838080" y="380880"/>
            <a:ext cx="1447920" cy="1175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3360" y="236232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6320" y="63997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ommunity Partnership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22:13:01Z</dcterms:created>
  <dc:creator>Chris</dc:creator>
  <dc:description/>
  <dc:language>en-US</dc:language>
  <cp:lastModifiedBy>Chris</cp:lastModifiedBy>
  <dcterms:modified xsi:type="dcterms:W3CDTF">2009-08-27T22:35:04Z</dcterms:modified>
  <cp:revision>3</cp:revision>
  <dc:subject/>
  <dc:title>Slide 1</dc:title>
</cp:coreProperties>
</file>